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50CE-1710-4D8B-B5C7-6F61B945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68F-C5CB-4C19-95E1-13DB8B79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A32-247F-4986-9006-71501733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7D3A-16E5-408F-9986-8CA9689B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85A9-C1ED-4C8E-B2D4-A9D9D6CD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4F7B-7D5F-4FFC-8A47-F781FA33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9089-1922-4B4C-8C23-740F4EC2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C635-F243-4868-94AA-6CF782C3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6721-1B24-4F95-AF5B-7FA8E88A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A354-F8E7-4ECF-9A1C-07A7EC58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AB95-29B6-4678-B4E2-98E6193E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5168-61AF-4CB5-93C8-060DD0A6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033D-DA87-4F80-80EB-2BF401F5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C5A4-1673-487A-B76B-04EE334E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543B-AE5C-4A79-BE7F-0BC7F263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3F1B-786D-4574-B112-B4B3A93B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7BBB-6863-41C1-A31B-D54B94F7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20A-B861-484D-9248-B0D32363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4B26-0855-4C1E-8152-A50B17EA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34B8-47AA-424C-BB64-DCDE4CB6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7A3E-1EFE-40EB-9AD3-8FD10080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C3C-1477-48A0-8166-72A4F725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869-AFDB-4223-888F-16D0918D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C7AA-EA39-43FC-8D59-01492234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D2B1-1CE7-4E2F-B88C-590562E2A5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DC6E-35A8-4593-90F1-637A6AF70D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752480" y="0"/>
            <a:ext cx="5588280" cy="604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400" y="6064920"/>
            <a:ext cx="509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ем заканчиваются времена московского государств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называется следующий отрезок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ка делает крутой поворот. С чьим именем это связано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ang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академ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гер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мореплаватель,                        то пл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Он всеобъемлющей ду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На троне вечный был рабо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5257800" y="914400"/>
            <a:ext cx="33433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152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ётр 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60" y="6505200"/>
            <a:ext cx="39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ие преобразования задумал Петр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45440" cy="4719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447920" y="304920"/>
            <a:ext cx="61736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а армия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0" t="2083" r="0" b="0"/>
          <a:stretch/>
        </p:blipFill>
        <p:spPr>
          <a:xfrm>
            <a:off x="914400" y="1905120"/>
            <a:ext cx="34974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rcRect l="0" t="2322" r="4190" b="2322"/>
          <a:stretch/>
        </p:blipFill>
        <p:spPr>
          <a:xfrm>
            <a:off x="4572000" y="26668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692360" y="62064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ромышл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324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вы думаете, могут ли преобразования обходиться легко для народ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1676520" y="380880"/>
            <a:ext cx="55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 фло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539640" y="228600"/>
            <a:ext cx="77043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вратилась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ьнейшее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сударство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71800" cy="2219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19720" y="2285640"/>
            <a:ext cx="49528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еевски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 флаг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4191120"/>
            <a:ext cx="3675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rcRect l="7702" t="20522" r="7702" b="25653"/>
          <a:stretch/>
        </p:blipFill>
        <p:spPr>
          <a:xfrm>
            <a:off x="609480" y="1905120"/>
            <a:ext cx="335304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-228600" y="304920"/>
            <a:ext cx="4952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оссий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3047760" cy="33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3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Академия нау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Основан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725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 году по распоряжению Петра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.                                                                                      Она называлась Императорская академия наук и художеств</a:t>
            </a: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0" t="0" r="0" b="32828"/>
          <a:stretch/>
        </p:blipFill>
        <p:spPr>
          <a:xfrm>
            <a:off x="2057400" y="1752480"/>
            <a:ext cx="5181480" cy="25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2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